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15E94B4C-56C9-4C66-904F-113A2C144C1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D90CA916-CB4F-4A7A-8A81-7623E071C57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Back-up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43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500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02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1017720" y="1890720"/>
            <a:ext cx="7451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isa’s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Q data indicate the team is gathering def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Lisa’s team is not meeting its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unit test defects ar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is that integration and system test defects will also b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has not been recording all of its defect data so we must do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efects injected, multiply phase time by injection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defects removed by using the yield for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gnore defects injected before imple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developers who use the PSP and gather defects data inject fewer defects, multiply these estimates by the following facto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design defects injected – 1.0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coding defects injected – 1.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1"/>
          <a:stretch/>
        </p:blipFill>
        <p:spPr>
          <a:xfrm>
            <a:off x="530280" y="2185920"/>
            <a:ext cx="8219880" cy="1646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96680" y="58993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19080" y="6067440"/>
            <a:ext cx="746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When developers do not record defect data, they inject more defects than when they do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Remov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378000" y="2019240"/>
            <a:ext cx="8240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per Def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George’s team, the time required to remove defects in integration and system test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 time: 14.27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ime:  25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ask Tim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ask time for the teams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, Jeff’s team has worked 1,698.3 task hours.  That is 84.92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worked 1,679.9 task hours in 22 weeks for an average of 76.36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Lisa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st time for Lisa’s team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30.7 defects at 14.27 hours each is 438.1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15.0 defects at 25 hours each is 375 tas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813.1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Jeff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Jeff’s team, the estimated test time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123.7 defects at 14.27 hours = 1,765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52.2 defects at 25 hours each = 1305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3,070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8280" y="16938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planned on 362.9 hours of testing, so the 813.1 test time estimate adds 450.2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6.36 task hours per week, this adds 5.9 weeks to the EV estimate of 19.5 weeks, ending in 25. 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8280" y="1706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planned on 288 hours of testing, so the  3,070.4 hour estimate adds 2,782.4 hours to that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84.92 task hours per week, this will add 32.8 weeks to the EV estimate of 18.6 weeks, giving 51.4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Assurance Concer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1848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prior projects, Quality Assurance believes that insufficient time is planned for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041480" y="2546280"/>
            <a:ext cx="7057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8280" y="1693800"/>
            <a:ext cx="7289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earned 53 EV points in 22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rate of 2.409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95160" y="1324080"/>
            <a:ext cx="7751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4880" y="1429920"/>
            <a:ext cx="7037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Jeff’s team has earned 51.8 EV in 20 wee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s is a rate of 2.59 EV per week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698400" y="1320840"/>
            <a:ext cx="77932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 Schedule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201600" y="2128680"/>
            <a:ext cx="837108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27040" y="1046160"/>
            <a:ext cx="8109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00040" y="1054080"/>
            <a:ext cx="8129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27040" y="1054080"/>
            <a:ext cx="8088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3:1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1Z</dcterms:modified>
  <cp:revision>55</cp:revision>
  <dc:subject>24 July 2001 / 3:30pm</dc:subject>
  <dc:title>PowerPoint Presentation</dc:title>
</cp:coreProperties>
</file>